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7c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477120"/>
            <a:ext cx="6324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1dd"/>
                </a:solidFill>
                <a:latin typeface="Arial"/>
              </a:rPr>
              <a:t>El espectro sonoro          NM1         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rchile.cl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l espectro sonoro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514600" y="5181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1dd"/>
                </a:solidFill>
                <a:latin typeface="Arial"/>
              </a:rPr>
              <a:t>NM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1dd"/>
                </a:solidFill>
                <a:latin typeface="Arial"/>
              </a:rPr>
              <a:t>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1dd"/>
                </a:solidFill>
                <a:latin typeface="Arial"/>
              </a:rPr>
              <a:t>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0" y="57913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6880" y="1412640"/>
            <a:ext cx="53247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Una de sus aplicaciones es la detección de grandes objetos a grandes distancias, como por ejemplo, el fondo marino o montañ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Otra aplicación es en sismógrafos para monitorear terrem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ra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00720" y="1268280"/>
            <a:ext cx="2000160" cy="216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00720" y="3573360"/>
            <a:ext cx="20080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0000" y="2708280"/>
            <a:ext cx="4680000" cy="144144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2997360"/>
            <a:ext cx="410544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l ultrason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El ultrasonido es una onda acústica de alta frecu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Como ya vimos, está por sobre los 20 K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Algunas de sus característic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8000"/>
                </a:solidFill>
                <a:latin typeface="Arial"/>
              </a:rPr>
              <a:t>Puede estar compuesto por ondas longitudinales y/o transvers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8000"/>
                </a:solidFill>
                <a:latin typeface="Arial"/>
              </a:rPr>
              <a:t>Su longitud es corta; puede ser de algunos centímetros o mic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435640" y="1844280"/>
            <a:ext cx="316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Algunos animales que utilizan el ultrasonido son el murciélago y la marso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022560" cy="1979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68360" y="4149720"/>
            <a:ext cx="2286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49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Una de sus aplicaciones es la de guía para submarinos, haciendo un barrido del lecho mar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Otra aplicación sucede en medicina, en imágenes internas del cuerpo, por ejemplo, la ecografía de un beb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03652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5640" y="4390920"/>
            <a:ext cx="34560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¿Qué es el son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i="1" lang="es-ES" sz="3200" spc="-1" strike="noStrike">
                <a:solidFill>
                  <a:srgbClr val="ff8000"/>
                </a:solidFill>
                <a:latin typeface="Arial"/>
              </a:rPr>
              <a:t>El sonido es una sensación detectada por nuestro oí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¿Por qué se produce el son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i="1" lang="es-ES" sz="3200" spc="-1" strike="noStrike">
                <a:solidFill>
                  <a:srgbClr val="ff8000"/>
                </a:solidFill>
                <a:latin typeface="Arial"/>
              </a:rPr>
              <a:t>Físicamente hablando, se produce por un movimiento ondulatorio, generado por un movimiento vibr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554184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777777"/>
                </a:solidFill>
                <a:latin typeface="Arial"/>
              </a:rPr>
              <a:t>Para que exista el sonido, es necesario que se den dos cond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Arial"/>
              </a:rPr>
              <a:t>Una fuente de vibración mecán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8000"/>
                </a:solidFill>
                <a:latin typeface="Arial"/>
              </a:rPr>
              <a:t>Por ejemplo, una cuerda de guita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Arial"/>
              </a:rPr>
              <a:t>Un medio elástico por el cual se propag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8000"/>
                </a:solidFill>
                <a:latin typeface="Arial"/>
              </a:rPr>
              <a:t>Por ejemplo, el 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54560" y="1700280"/>
            <a:ext cx="2543400" cy="166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26200" y="3789360"/>
            <a:ext cx="24289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68360" y="2708280"/>
            <a:ext cx="4608720" cy="216072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2997360"/>
            <a:ext cx="3816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l espectro sono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El espectro sonoro, es decir </a:t>
            </a:r>
            <a:r>
              <a:rPr b="0" i="1" lang="es-ES" sz="3200" spc="-1" strike="noStrike">
                <a:solidFill>
                  <a:srgbClr val="ff8000"/>
                </a:solidFill>
                <a:latin typeface="Arial"/>
              </a:rPr>
              <a:t>aquellas frecuencias que logramos escuchar</a:t>
            </a: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, está comprendido entre los 20 Hz. y los     20 KH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Entre estas frecuencias un oído humano normal logra percib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En todo caso, este margen de audición dependerá de cada individ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espectro son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Pero existen dos frecuencias que no logramos escuch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Una que está por debajo de los 20 Hz, llamada </a:t>
            </a:r>
            <a:r>
              <a:rPr b="0" lang="es-ES" sz="3200" spc="-1" strike="noStrike">
                <a:solidFill>
                  <a:srgbClr val="ff8000"/>
                </a:solidFill>
                <a:latin typeface="Arial"/>
              </a:rPr>
              <a:t>infrasonido</a:t>
            </a: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Y otra por encima de los 20 KHz, llamada </a:t>
            </a:r>
            <a:r>
              <a:rPr b="0" lang="es-ES" sz="3200" spc="-1" strike="noStrike">
                <a:solidFill>
                  <a:srgbClr val="ff8000"/>
                </a:solidFill>
                <a:latin typeface="Arial"/>
              </a:rPr>
              <a:t>ultrasonido</a:t>
            </a: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espectro son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40000" y="2708280"/>
            <a:ext cx="4680000" cy="144144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2997360"/>
            <a:ext cx="4105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l infrason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El infrasonido es una onda acústica de baja frecu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Como ya vimos, está por debajo de los 20 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Algunas de sus característic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8000"/>
                </a:solidFill>
                <a:latin typeface="Arial"/>
              </a:rPr>
              <a:t>Su emisión es en forma de ondas esfé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8000"/>
                </a:solidFill>
                <a:latin typeface="Arial"/>
              </a:rPr>
              <a:t>Son difíciles de concent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8000"/>
                </a:solidFill>
                <a:latin typeface="Arial"/>
              </a:rPr>
              <a:t>Pueden llegar más lejos que las otras on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ra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219640" y="1844280"/>
            <a:ext cx="316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7777"/>
                </a:solidFill>
                <a:latin typeface="Arial"/>
              </a:rPr>
              <a:t>Solo algunos animales escuchan dentro de esta frecuencia, entre ellos, el elefante y la ballena az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6520" y="328680"/>
            <a:ext cx="8076960" cy="76176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4640"/>
            <a:ext cx="799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ra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2873520" cy="2298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4005360"/>
            <a:ext cx="2951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7:54:30Z</dcterms:created>
  <dc:creator/>
  <dc:description/>
  <dc:language>en-US</dc:language>
  <cp:lastModifiedBy>Teresa Flórez</cp:lastModifiedBy>
  <dcterms:modified xsi:type="dcterms:W3CDTF">2007-02-20T20:53:30Z</dcterms:modified>
  <cp:revision>186</cp:revision>
  <dc:subject/>
  <dc:title>El espectro sonoro</dc:title>
</cp:coreProperties>
</file>